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"/>
          </p:nvPr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2"/>
          </p:nvPr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859840" y="8836200"/>
            <a:ext cx="12747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6E14760B-DB5A-4AB1-8D66-6D6D89290E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Img"/>
          </p:nvPr>
        </p:nvSpPr>
        <p:spPr>
          <a:xfrm>
            <a:off x="1185480" y="701280"/>
            <a:ext cx="462276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5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9320" bIns="4932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or describes exerc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escribe, in writing, their view of software development their orga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volunteers are asked to read their vie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engages in short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instructor facilitates the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instructor observes and records the class attitude, experience, and plans concerning software development at the orga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written comments are collected and saved for conclusion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ldImg"/>
          </p:nvPr>
        </p:nvSpPr>
        <p:spPr>
          <a:xfrm>
            <a:off x="1185840" y="701640"/>
            <a:ext cx="4622760" cy="34671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CA913AED-90F0-4AB2-9C78-6525A201E9B5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866202F8-25FB-48A8-94D9-2E0C7CB0A752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Rectangle 5189"/>
          <p:cNvSpPr/>
          <p:nvPr/>
        </p:nvSpPr>
        <p:spPr>
          <a:xfrm>
            <a:off x="4143960" y="6567480"/>
            <a:ext cx="939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August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Lectures/v3.2%20(1)%20Introduction%20to%20PSP.ppt" TargetMode="External"/><Relationship Id="rId2" Type="http://schemas.openxmlformats.org/officeDocument/2006/relationships/hyperlink" Target="file:///../Tutorials/v3.2%20PSP0.ppt" TargetMode="External"/><Relationship Id="rId3" Type="http://schemas.openxmlformats.org/officeDocument/2006/relationships/hyperlink" Target="file:///../Tutorials/v3.2PSP00EX.doc" TargetMode="External"/><Relationship Id="rId4" Type="http://schemas.openxmlformats.org/officeDocument/2006/relationships/hyperlink" Target="file:///../Tutorials/v3.2PSP00EXans.doc" TargetMode="External"/><Relationship Id="rId5" Type="http://schemas.openxmlformats.org/officeDocument/2006/relationships/hyperlink" Target="file:///../Workshops/v3.2.1WS1A.ppt" TargetMode="Externa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../Lectures/v3.2%20(2)%20Planning%20and%20size%20measurement.ppt" TargetMode="External"/><Relationship Id="rId2" Type="http://schemas.openxmlformats.org/officeDocument/2006/relationships/hyperlink" Target="file:///../Tutorials/v3.2%20Student%20Workbook.ppt" TargetMode="External"/><Relationship Id="rId3" Type="http://schemas.openxmlformats.org/officeDocument/2006/relationships/hyperlink" Target="file:///../Tutorials/v3.2%20R1.ppt" TargetMode="External"/><Relationship Id="rId4" Type="http://schemas.openxmlformats.org/officeDocument/2006/relationships/hyperlink" Target="file:///../Tutorials/v3.2%20R2.ppt" TargetMode="External"/><Relationship Id="rId5" Type="http://schemas.openxmlformats.org/officeDocument/2006/relationships/hyperlink" Target="file:///../Tutorials/v3.2%20PSP0.1.ppt" TargetMode="External"/><Relationship Id="rId6" Type="http://schemas.openxmlformats.org/officeDocument/2006/relationships/hyperlink" Target="file:///../Tutorials/v3.2PSP01EX.doc" TargetMode="External"/><Relationship Id="rId7" Type="http://schemas.openxmlformats.org/officeDocument/2006/relationships/hyperlink" Target="file:///../Tutorials/v3.2PSP01EXans.doc" TargetMode="External"/><Relationship Id="rId8" Type="http://schemas.openxmlformats.org/officeDocument/2006/relationships/hyperlink" Target="file:///../Workshops/v3.2WS2A.ppt" TargetMode="External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../Lectures/v3.2%20(3)%20Size%20estimating.ppt" TargetMode="External"/><Relationship Id="rId2" Type="http://schemas.openxmlformats.org/officeDocument/2006/relationships/hyperlink" Target="file:///../Tutorials/V3.2%20R3.ppt" TargetMode="External"/><Relationship Id="rId3" Type="http://schemas.openxmlformats.org/officeDocument/2006/relationships/hyperlink" Target="file:///../Workshops/v3.2WS3A.ppt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15920" y="92664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urse Overview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9020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Instructor Availability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94880" y="1447920"/>
            <a:ext cx="7559640" cy="2946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tructors will be availa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class hours each d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class by phone or e-ma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9020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xpectation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788760" y="1450440"/>
            <a:ext cx="7880040" cy="41878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udents learn the PSP 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ing the assigned read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ending the class lectures, tutorials, and worksho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ing the assign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should plan to spend two weeks of classroom time and up to an additional week outside the class to complete the cour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expectation for each student is that you are able and willing to make this commitm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7760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Ground Rules for Clas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82280" y="1447920"/>
            <a:ext cx="789156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406440" indent="-4064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here on time; we will start on time each da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end all sessions; discuss any exceptions with instructo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this room a “quiet zone” during lab periods; move conversations outsid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 use the PSP techniques/methods on the assignments.  Your goal is to learn the process, not write progra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rn in assignments that are correct, complete, and in the proper ord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776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urse Agenda - Day 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31520" y="144792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ental breakfa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3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rse overvie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Introduction to the PSP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:3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 ses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Using PSP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PSP0 exerci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4"/>
              </a:rPr>
              <a:t>PSP0 exercise answ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5"/>
              </a:rPr>
              <a:t>Assignment 1A worksho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un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 session (continu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776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urse Agenda - Day 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31520" y="144792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ental breakfa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3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Planning overview/size measur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:3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 ses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Using the student workboo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LOC counting standard – R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4"/>
              </a:rPr>
              <a:t>Coding standard – R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5"/>
              </a:rPr>
              <a:t>Using PSP0.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6"/>
              </a:rPr>
              <a:t>PSP0.1 exerci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7"/>
              </a:rPr>
              <a:t>PSP0.1 exercise answ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8"/>
              </a:rPr>
              <a:t>Assignment 2A worksho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un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 session (continu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500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urse Agenda - Day 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1520" y="144792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fa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1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ass data feedbac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3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Size estim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:3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 ses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Defect analysis report – R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Assignment 3A worksho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un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 session (continu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776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urse Agenda - Day 4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31520" y="144792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ental breakfa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1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ass data feedbac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3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ROBE estimating met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:3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 ses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PROBE with the student workboo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PSP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ignment 4A worksho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un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 session (continu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76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urse Agenda - Day 5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31520" y="144792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ental breakfa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1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ass data feedbac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3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ource and schedule pla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:3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 ses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PSP1.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ignment 5A worksho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un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 session (continu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mework Assign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ignment 6A worksho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4 midterm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:4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rse feedback and evalu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7320" y="44280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ost-Course Homework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883800" y="144792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escrip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diction interv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d-term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-reading fo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pters 8 to 14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ek 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endix 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endix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374 pag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01360" y="44280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ost-Course Schedul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883800" y="144792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28520" indent="-128520"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stimated Effor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u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8520" indent="-128520"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-6 hou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8520" indent="-128520"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-20 hou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8520" indent="-128520"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8520" indent="-128520"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-read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-20 hou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8520" indent="-128520"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week 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7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776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Introduction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94880" y="1449360"/>
            <a:ext cx="8007480" cy="47102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1840" bIns="51840" anchor="t">
            <a:norm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tructor introdu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rse logistics and building facil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udent introdu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91960" indent="-177480"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me and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91960" indent="-177480"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rse expec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91960" indent="-177480"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guage you will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xercis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“Question/Comment” sheet to describe your view of software development issues and problems in your organiza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you finish your responses, we will have a class discussion about software development in your organiza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028"/>
          <p:cNvSpPr/>
          <p:nvPr/>
        </p:nvSpPr>
        <p:spPr>
          <a:xfrm>
            <a:off x="4360320" y="5884920"/>
            <a:ext cx="20966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 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10 minutes</a:t>
            </a: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64" name="Picture 1029" descr=""/>
          <p:cNvPicPr/>
          <p:nvPr/>
        </p:nvPicPr>
        <p:blipFill>
          <a:blip r:embed="rId1"/>
          <a:stretch/>
        </p:blipFill>
        <p:spPr>
          <a:xfrm>
            <a:off x="3554280" y="5597640"/>
            <a:ext cx="64944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902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 Course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447920"/>
            <a:ext cx="7851600" cy="42926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14480" indent="-144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is a software process course.  The objectives are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e you to a process-based approach to developing softw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w you how to measure and analyze your personal software process (PSP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w you how to use process data to improve your personal performan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w you how to apply these methods to other structured tas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General Course Informatio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94880" y="1447560"/>
            <a:ext cx="7559640" cy="45846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 know a programming languag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should have completed the pre-read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lpful backgrou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miliarity with basic statistic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ility to read simple formal no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cil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ailable development environmen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 Word and Excel capabi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5000" y="4204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urse Topic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88760" y="1450440"/>
            <a:ext cx="3630600" cy="41259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 Part I: Pla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tion to personal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measur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xy-based estim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ource estim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s measur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011200" y="1449360"/>
            <a:ext cx="3660840" cy="45086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 Part II: Qu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manag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esign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 verifi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ling up to TS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the PSP and TS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5000" y="4204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urse Structur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94880" y="1447560"/>
            <a:ext cx="7559640" cy="4305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-course reading assign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ypical course d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cture:  review key topics from textboo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s tuto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ignment worksho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 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course home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tudent Evaluatio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01720" y="1450800"/>
            <a:ext cx="7664400" cy="36720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factors that affect your evaluation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quality of the data that you subm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ompleteness and consistency of your resul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herence to the proper order and format of assignment submiss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analysis of your PS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8-11-02T17:30:01Z</cp:lastPrinted>
  <dcterms:modified xsi:type="dcterms:W3CDTF">2018-09-06T00:16:50Z</dcterms:modified>
  <cp:revision>82</cp:revision>
  <dc:subject/>
  <dc:title>No Slide Title</dc:title>
</cp:coreProperties>
</file>